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22.png" ContentType="image/png"/>
  <Override PartName="/ppt/media/image4.jpeg" ContentType="image/jpeg"/>
  <Override PartName="/ppt/media/image25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3F17-6778-40C0-946F-B22F280BB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AD0B-7E35-4545-896F-E3CC2472D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20C0-E4B6-4367-BC81-37F5B2BC3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F26E-E923-4FF3-8A92-6C5C16297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9216A-4410-4647-AFA3-15FDCD550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E98F6-A21B-4B52-9C65-F441236EA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92A0A-9913-42D3-8EA6-BE50A55B7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8329C-BFC3-4BFC-A369-220C46484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E9763-4B90-4042-8181-3F19C4FD9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02D6F-9E2F-482C-9C69-BC7272F9B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C9A76-D72F-4D7B-9AB8-696BEA16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052D-958D-4A2C-87C4-250F0D4F4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F64D9-D8B4-478A-B60B-CD731B45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A16AC-7F24-4DA4-AA34-BAE14351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E915D-F2D1-4398-B2DD-694F79E10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01498-2EB9-45F7-AD7E-C1A8763C4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2D176-2815-4B0F-9064-4DC0D0C13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E4458-9645-4ADD-877C-8AC4398E2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F878F-45F3-41E9-9825-BA46BB9F5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62E33-5479-4899-BB7E-A2CD9B41A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44A7F-75AF-4D85-A627-E5CC66957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93489-6519-4430-B95A-BDBDC6EFF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5B00-FB8E-49AD-8EC2-7DAF649B7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9252A-5D49-46FF-9F50-C97F8A504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4BE2D-E054-4527-AA16-B6D55A0E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8919E-8BC3-4001-BE27-0BA467BC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240AF-C970-429A-B03A-01764D90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B3A5E-312A-45CC-8102-7A499A533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82620-9986-4B64-B208-2C9FDAF2E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6568C-3CC9-4A2A-B058-A349FFAEC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D350C-15CF-49FD-B5D0-278BC12AD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AADFA-A73C-4030-9D79-88BB6E0A8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9EF5C-704A-4D5A-AA3C-B304302E7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521A-D8F2-49D5-ABC1-AA24D003A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1FBAA-1963-4166-8FC7-94BFAF1C2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88720-BFBA-4E93-8A1D-102A21076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A4F95-103B-4441-BBF9-78B0FB57C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43E67-69C5-428B-8904-1B14ECB4A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48AA3-06E8-4396-A72D-6F681E67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7461D-66F6-4241-B6EE-A8532550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1E449-3A68-4BF7-94D4-01D27DD36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69368-875C-4D68-9BB6-3C8785A69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0ABF4-3E84-4712-927F-C2C956453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22FCF-0CE3-46A7-BD30-80E7B8F84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BB0A-2722-4458-BDFE-6F06EBF80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6362B-358A-4772-ABD4-29CC5AF47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7FE27-6CEF-4722-8669-BF6EB1F13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3E259-AC37-44B8-AA38-A5214DADA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2CBDB-4D71-4514-9ACA-40F6CFBDB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2736C-B6C2-4028-9E3E-32D30307D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C3C21-196F-449A-AC41-E9476BB7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DFD4B-9F7F-49CB-9066-3B88908B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4DB8C-8588-46E7-AEF0-AB93234A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5000C-D4C7-4B63-B0ED-E2BE9C325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CECFC-D127-4DCD-AA84-A3453E694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C4B9-B04E-4A1A-B638-7CA25C4BB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623D4-8B99-4E01-AD74-870457828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8C8F-0511-47F1-AF61-BB7A7AC8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44D3-FA5A-439E-8EB8-2F19D0BF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668F-74F4-4B78-831D-E46B1335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B08F0-30E5-4D8E-A13C-9C49DAA3F5E1}" type="slidenum">
              <a:rPr b="0" lang="en-GB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BF776-C85D-497D-862C-37E215C09D76}" type="slidenum">
              <a:rPr b="0" lang="en-GB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265A0-2428-42A5-8B6E-079B61B86435}" type="slidenum">
              <a:rPr b="0" lang="en-GB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3452-4F5C-4DBA-AC74-D245AEF1EA3F}" type="slidenum">
              <a:rPr b="0" lang="en-GB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013E1-82CF-4AA6-9745-82DEFC02833F}" type="slidenum">
              <a:rPr b="0" lang="en-GB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3121200" y="1103400"/>
            <a:ext cx="5181480" cy="34495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Title 1" descr=""/>
          <p:cNvPicPr/>
          <p:nvPr/>
        </p:nvPicPr>
        <p:blipFill>
          <a:blip r:embed="rId1"/>
          <a:stretch/>
        </p:blipFill>
        <p:spPr>
          <a:xfrm>
            <a:off x="244440" y="-6480"/>
            <a:ext cx="7461360" cy="11588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  <a:ea typeface="Cambria"/>
              </a:rPr>
              <a:t>Темељи се на доживљају самог болесника, јер објективно мерење боли не постоји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Title 1" descr=""/>
          <p:cNvPicPr/>
          <p:nvPr/>
        </p:nvPicPr>
        <p:blipFill>
          <a:blip r:embed="rId1"/>
          <a:stretch/>
        </p:blipFill>
        <p:spPr>
          <a:xfrm>
            <a:off x="298440" y="-6480"/>
            <a:ext cx="7407360" cy="1158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  <a:ea typeface="Cambria"/>
              </a:rPr>
              <a:t>Основа мерења бола је </a:t>
            </a:r>
            <a:r>
              <a:rPr b="1" lang="en-US" sz="2600" spc="-1" strike="noStrike">
                <a:solidFill>
                  <a:srgbClr val="000000"/>
                </a:solidFill>
                <a:latin typeface="Cambria"/>
                <a:ea typeface="Cambria"/>
              </a:rPr>
              <a:t>самопроцена од стране пацијент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  <a:ea typeface="Cambria"/>
              </a:rPr>
              <a:t>Пацијент описује бол сопственим речима и на свој начин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  <a:ea typeface="Cambria"/>
              </a:rPr>
              <a:t>Објективизацију (квантификацију)бола вршимо помоћу клиничких скал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  <a:ea typeface="Cambria"/>
              </a:rPr>
              <a:t>Скале за процену бола могу бити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mbria"/>
                <a:ea typeface="Cambria"/>
              </a:rPr>
              <a:t>1. једнодимензионалн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mbria"/>
                <a:ea typeface="Cambria"/>
              </a:rPr>
              <a:t>2. мултидимензионалне скале 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  <a:ea typeface="Cambria"/>
              </a:rPr>
              <a:t>(прате више карактеристика бола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Title 1" descr=""/>
          <p:cNvPicPr/>
          <p:nvPr/>
        </p:nvPicPr>
        <p:blipFill>
          <a:blip r:embed="rId1"/>
          <a:stretch/>
        </p:blipFill>
        <p:spPr>
          <a:xfrm>
            <a:off x="285840" y="-6480"/>
            <a:ext cx="7419960" cy="115884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  <a:ea typeface="Cambria"/>
              </a:rPr>
              <a:t>Скале бола требају бити једноставне, разумљиве за пацијенте и брзе за употребу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  <a:ea typeface="Cambria"/>
              </a:rPr>
              <a:t>Могу бити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  <a:ea typeface="Cambria"/>
              </a:rPr>
              <a:t>1. визуелн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  <a:ea typeface="Cambria"/>
              </a:rPr>
              <a:t>2. вербалн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  <a:ea typeface="Cambria"/>
              </a:rPr>
              <a:t>3. нумеричк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ambria"/>
                <a:ea typeface="Cambria"/>
              </a:rPr>
              <a:t>4. 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  <a:ea typeface="Cambria"/>
              </a:rPr>
              <a:t>скала за процену бола са лицима (FPS)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itle 1" descr=""/>
          <p:cNvPicPr/>
          <p:nvPr/>
        </p:nvPicPr>
        <p:blipFill>
          <a:blip r:embed="rId1"/>
          <a:stretch/>
        </p:blipFill>
        <p:spPr>
          <a:xfrm>
            <a:off x="255600" y="298440"/>
            <a:ext cx="7450200" cy="1158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7200" y="159984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Cambria"/>
              </a:rPr>
              <a:t>Нумеричка скала (НС) која се често зове и визуелна нумеричка скала (VNRS/VNS), јер је скала објашњена или приказана на папиру, тако да одговара неком броју (0-5 или 0-10)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Cambria"/>
              </a:rPr>
              <a:t>Она је једноставна за примену у процену интензитета бола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Cambria"/>
              </a:rPr>
              <a:t>На скали 0 означава потпуно одсуство бола, а 10 најјачи могући бол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Title 1" descr=""/>
          <p:cNvPicPr/>
          <p:nvPr/>
        </p:nvPicPr>
        <p:blipFill>
          <a:blip r:embed="rId1"/>
          <a:stretch/>
        </p:blipFill>
        <p:spPr>
          <a:xfrm>
            <a:off x="822240" y="146160"/>
            <a:ext cx="7493040" cy="115884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4"/>
          <p:cNvSpPr/>
          <p:nvPr/>
        </p:nvSpPr>
        <p:spPr>
          <a:xfrm>
            <a:off x="2819520" y="518148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1-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ла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4-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умерено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јак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&gt; 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ja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бо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Title 1" descr=""/>
          <p:cNvPicPr/>
          <p:nvPr/>
        </p:nvPicPr>
        <p:blipFill>
          <a:blip r:embed="rId1"/>
          <a:stretch/>
        </p:blipFill>
        <p:spPr>
          <a:xfrm>
            <a:off x="255600" y="-6480"/>
            <a:ext cx="7450200" cy="11588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  <a:ea typeface="Cambria"/>
              </a:rPr>
              <a:t>Недостатак ове скале је праћење само интензитета бола, не прати друге карактеристике бола који могу да утичу на исход тестирања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  <a:ea typeface="Cambria"/>
              </a:rPr>
              <a:t>Ипак је неопходно одредити интензитет бола за побољшање медицинске документације и праћења ефекта лечењ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Title 1" descr=""/>
          <p:cNvPicPr/>
          <p:nvPr/>
        </p:nvPicPr>
        <p:blipFill>
          <a:blip r:embed="rId1"/>
          <a:stretch/>
        </p:blipFill>
        <p:spPr>
          <a:xfrm>
            <a:off x="895320" y="-6480"/>
            <a:ext cx="7493040" cy="115884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4"/>
          <p:cNvSpPr/>
          <p:nvPr/>
        </p:nvSpPr>
        <p:spPr>
          <a:xfrm>
            <a:off x="533520" y="50292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Cambria"/>
              </a:rPr>
              <a:t>Вербална скала омогућава вам да процените интензитет бола кроз квалитативно вербално процењивање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Title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Cambria"/>
              </a:rPr>
              <a:t>Састоји се од једне линије са вредностима на почетку 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  <a:ea typeface="Cambria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Cambria"/>
              </a:rPr>
              <a:t> а на крају линије 10 (0 – 100 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  <a:ea typeface="Cambria"/>
              </a:rPr>
              <a:t>mm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Cambria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Cambria"/>
              </a:rPr>
              <a:t>О представља потпуно одсуство бола, на крају линије се налази 10 што представља најјачи могући бол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Cambria"/>
              </a:rPr>
              <a:t>Ова скала је најчешће у употреби у свакодневној клиничкој пракси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Title 1" descr=""/>
          <p:cNvPicPr/>
          <p:nvPr/>
        </p:nvPicPr>
        <p:blipFill>
          <a:blip r:embed="rId1"/>
          <a:stretch/>
        </p:blipFill>
        <p:spPr>
          <a:xfrm>
            <a:off x="822240" y="-6480"/>
            <a:ext cx="7493040" cy="115884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mbria"/>
              </a:rPr>
              <a:t>ВАС од 0-3 </a:t>
            </a:r>
            <a:r>
              <a:rPr b="1" lang="sr-RS" sz="2600" spc="-1" strike="noStrike" u="sng">
                <a:solidFill>
                  <a:srgbClr val="000000"/>
                </a:solidFill>
                <a:uFillTx/>
                <a:latin typeface="Cambria"/>
              </a:rPr>
              <a:t> - 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означава слаби интензитет бол</a:t>
            </a:r>
            <a:r>
              <a:rPr b="0" lang="sr-RS" sz="2600" spc="-1" strike="noStrike">
                <a:solidFill>
                  <a:srgbClr val="000000"/>
                </a:solidFill>
                <a:latin typeface="Cambria"/>
              </a:rPr>
              <a:t>а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 и не захтева аналгетску терапију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mbria"/>
              </a:rPr>
              <a:t>ВАС од 4-7 </a:t>
            </a:r>
            <a:r>
              <a:rPr b="1" lang="sr-RS" sz="2600" spc="-1" strike="noStrike" u="sng">
                <a:solidFill>
                  <a:srgbClr val="000000"/>
                </a:solidFill>
                <a:uFillTx/>
                <a:latin typeface="Cambria"/>
              </a:rPr>
              <a:t> - 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указује на бол средње јаког интензитета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mbria"/>
              </a:rPr>
              <a:t>ВАС од 7-10 </a:t>
            </a:r>
            <a:r>
              <a:rPr b="1" lang="sr-RS" sz="2600" spc="-1" strike="noStrike" u="sng">
                <a:solidFill>
                  <a:srgbClr val="000000"/>
                </a:solidFill>
                <a:uFillTx/>
                <a:latin typeface="Cambria"/>
              </a:rPr>
              <a:t> - 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означава јаку бол која захтева неодложно лечење јаким аналгетицима, најчешће опијатим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Title 1" descr=""/>
          <p:cNvPicPr/>
          <p:nvPr/>
        </p:nvPicPr>
        <p:blipFill>
          <a:blip r:embed="rId1"/>
          <a:stretch/>
        </p:blipFill>
        <p:spPr>
          <a:xfrm>
            <a:off x="212760" y="-6480"/>
            <a:ext cx="7493040" cy="115884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Недостак ВАС скале бола је тешкоћа у размевању од стране пацијента (у односу на вербалну и нумеричку скалу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80520" y="533520"/>
            <a:ext cx="72392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1. васкуларна обољења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2. траума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3. дегенеративна обољења ЦНС-а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4. запаљенска обољења ЦНС-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5. тумори (бенигни и малигни) и др.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Title 1" descr=""/>
          <p:cNvPicPr/>
          <p:nvPr/>
        </p:nvPicPr>
        <p:blipFill>
          <a:blip r:embed="rId1"/>
          <a:stretch/>
        </p:blipFill>
        <p:spPr>
          <a:xfrm>
            <a:off x="633240" y="225360"/>
            <a:ext cx="7450200" cy="11527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Cambria"/>
              </a:rPr>
              <a:t>Ове скале осим интензитета бола, одређују у друге карактерике боли као што су: </a:t>
            </a:r>
            <a:r>
              <a:rPr b="0" lang="ru-RU" sz="2800" spc="-1" strike="noStrike">
                <a:solidFill>
                  <a:srgbClr val="ff0000"/>
                </a:solidFill>
                <a:latin typeface="Cambria"/>
                <a:ea typeface="Cambria"/>
              </a:rPr>
              <a:t>локализација бола, дистрибуција, емоционалне и социјалне  карактеристике бола </a:t>
            </a:r>
            <a:r>
              <a:rPr b="0" lang="ru-RU" sz="2800" spc="-1" strike="noStrike">
                <a:solidFill>
                  <a:srgbClr val="ff0000"/>
                </a:solidFill>
                <a:latin typeface="Cambria"/>
                <a:ea typeface="Cambria"/>
              </a:rPr>
              <a:t>и др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Cambria"/>
              </a:rPr>
              <a:t>Међутим употреба ових скала за процену бола је далеко сложенија за употребу и разумевање од стране болесника што ограничава примену у свакодневној клиничкој пракси. 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Title 1" descr=""/>
          <p:cNvPicPr/>
          <p:nvPr/>
        </p:nvPicPr>
        <p:blipFill>
          <a:blip r:embed="rId1"/>
          <a:stretch/>
        </p:blipFill>
        <p:spPr>
          <a:xfrm>
            <a:off x="633240" y="-6480"/>
            <a:ext cx="7450200" cy="11588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456840" y="1371240"/>
            <a:ext cx="762012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Cambria"/>
              </a:rPr>
              <a:t>Најчешће се користе: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Cambria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  <a:ea typeface="Cambria"/>
              </a:rPr>
              <a:t>. Мек Гилов упитник за бол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  <a:ea typeface="Cambri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Cambria"/>
              </a:rPr>
              <a:t>(Mc Gill Pain Questionnaire),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Cambri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Cambria"/>
              </a:rPr>
              <a:t>овај упитник користи велики број енглеских речи , што га сврстава у упитнике који се тешко могу користити у другим језичким подручјима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Cambria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  <a:ea typeface="Cambria"/>
              </a:rPr>
              <a:t>Кратки упитник за испитивање бола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  <a:ea typeface="Cambri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Cambria"/>
              </a:rPr>
              <a:t>(The Brief Pain Inventory)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Cambria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  <a:ea typeface="Cambria"/>
              </a:rPr>
              <a:t>. Картице за процену интензитета бола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  <a:ea typeface="Cambri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Cambria"/>
              </a:rPr>
              <a:t>(Тhe Memorial Pain Assessment Card)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Cambria"/>
              </a:rPr>
              <a:t>4.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  <a:ea typeface="Cambria"/>
              </a:rPr>
              <a:t>Упитник градације хроничне боли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Cambri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Cambria"/>
              </a:rPr>
              <a:t>(Chronic Pain Grade – CPG)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457200" y="761760"/>
            <a:ext cx="7238880" cy="56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Ови упитници мере различите димензије боли као што су 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интензитет и квалитет бола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повезани са функционалношћу и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утицајем на квалитет живот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Испитују 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интензитет бола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социјалне и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психолошке карактеристике бол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Изузетно су сложени и захтевају доста времена за рад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Title 1" descr=""/>
          <p:cNvPicPr/>
          <p:nvPr/>
        </p:nvPicPr>
        <p:blipFill>
          <a:blip r:embed="rId1"/>
          <a:stretch/>
        </p:blipFill>
        <p:spPr>
          <a:xfrm>
            <a:off x="225360" y="-6480"/>
            <a:ext cx="7480440" cy="11588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Cambria"/>
              </a:rPr>
              <a:t>Мултидимензионална скала која се најчешће користи у процени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Cambria"/>
              </a:rPr>
              <a:t>хроничног бола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Cambria"/>
              </a:rPr>
              <a:t>Састоји се од 4 дела за процену који описују различите аспекте или врсте бола. Дескриптори бола су према свом значењу подељени у 3 главне категорије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  <a:ea typeface="Cambria"/>
              </a:rPr>
              <a:t>: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mbria"/>
                <a:ea typeface="Cambria"/>
              </a:rPr>
              <a:t>сензорна, афективна и евалуативна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Cambria"/>
              </a:rPr>
              <a:t>који описују различите аспекте искуства бола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Cambria"/>
              </a:rPr>
              <a:t>За испуњавање је потребно 15 – 20 минута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Cambria"/>
              </a:rPr>
              <a:t>Употребу овог упитника није лако спровести у свакодневној пракси те се МПQ углавно користи у  клиничким истраживањима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Cambria"/>
              </a:rPr>
              <a:t>Због тог разлога једноставнија мерења, као што је ВАС боље су прихваћена у широкој употреб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Title 1" descr=""/>
          <p:cNvPicPr/>
          <p:nvPr/>
        </p:nvPicPr>
        <p:blipFill>
          <a:blip r:embed="rId1"/>
          <a:stretch/>
        </p:blipFill>
        <p:spPr>
          <a:xfrm>
            <a:off x="360360" y="658800"/>
            <a:ext cx="8107200" cy="275436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 txBox="1"/>
          <p:nvPr/>
        </p:nvSpPr>
        <p:spPr>
          <a:xfrm>
            <a:off x="1599840" y="4495320"/>
            <a:ext cx="6629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74396"/>
                </a:solidFill>
                <a:latin typeface="Cambria"/>
                <a:ea typeface="Cambria"/>
              </a:rPr>
              <a:t>Мини ментал скала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Title 1" descr=""/>
          <p:cNvPicPr/>
          <p:nvPr/>
        </p:nvPicPr>
        <p:blipFill>
          <a:blip r:embed="rId1"/>
          <a:stretch/>
        </p:blipFill>
        <p:spPr>
          <a:xfrm>
            <a:off x="285840" y="-42840"/>
            <a:ext cx="7419960" cy="151128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Cambria"/>
              </a:rPr>
              <a:t>Скрининг тест који се првенствено користи у дијагностици и праћењу когнитивног статуса код пацијената са деменцијом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Cambria"/>
              </a:rPr>
              <a:t>Нашао је своју широку примену и у другим областима које захтевају процену когнитивног статуса (на пр. након повреда главе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Cambria"/>
              </a:rPr>
              <a:t>Мала скала за процену менталног статуса служи за брзу процену когнитивног статуса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Title 1" descr=""/>
          <p:cNvPicPr/>
          <p:nvPr/>
        </p:nvPicPr>
        <p:blipFill>
          <a:blip r:embed="rId1"/>
          <a:stretch/>
        </p:blipFill>
        <p:spPr>
          <a:xfrm>
            <a:off x="438120" y="324000"/>
            <a:ext cx="7419960" cy="15112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456840" y="2209680"/>
            <a:ext cx="655308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  <a:ea typeface="Cambria"/>
              </a:rPr>
              <a:t>Ограничења за примену ове скале односе се на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  <a:ea typeface="Cambria"/>
              </a:rPr>
              <a:t>1.  очувану моторну способност 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  <a:ea typeface="Cambria"/>
              </a:rPr>
              <a:t>2. минимални образовни ниво који захтева четири разреда основне школ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Title 1" descr=""/>
          <p:cNvPicPr/>
          <p:nvPr/>
        </p:nvPicPr>
        <p:blipFill>
          <a:blip r:embed="rId1"/>
          <a:stretch/>
        </p:blipFill>
        <p:spPr>
          <a:xfrm>
            <a:off x="285840" y="96840"/>
            <a:ext cx="7419960" cy="15127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57200" y="2057040"/>
            <a:ext cx="685800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  <a:ea typeface="Cambria"/>
              </a:rPr>
              <a:t>Овај једноставни тест омогућава брзу, грубу процену когнитивног и емоционалног статуса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  <a:ea typeface="Cambria"/>
              </a:rPr>
              <a:t>Може указати на потребу додатне, детаљније психолошке дијагностик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  <a:ea typeface="Cambria"/>
              </a:rPr>
              <a:t>Саставни је део сваке неуропсихолошке групе тестов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Title 1" descr=""/>
          <p:cNvPicPr/>
          <p:nvPr/>
        </p:nvPicPr>
        <p:blipFill>
          <a:blip r:embed="rId1"/>
          <a:stretch/>
        </p:blipFill>
        <p:spPr>
          <a:xfrm>
            <a:off x="317520" y="268200"/>
            <a:ext cx="7388280" cy="120024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456840" y="1609200"/>
            <a:ext cx="754380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  <a:ea typeface="Cambria"/>
              </a:rPr>
              <a:t>Састоји се од 11 ставки и испитује се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  <a:ea typeface="Cambria"/>
              </a:rPr>
              <a:t>просторна и временска оријентација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  <a:ea typeface="Cambria"/>
              </a:rPr>
              <a:t>краткотрајно вербално памћење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  <a:ea typeface="Cambria"/>
              </a:rPr>
              <a:t>пажња и концентрација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  <a:ea typeface="Cambria"/>
              </a:rPr>
              <a:t>одложена репродукција упамћеног вербалног материјала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  <a:ea typeface="Cambria"/>
              </a:rPr>
              <a:t>способност именовања предмета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  <a:ea typeface="Cambria"/>
              </a:rPr>
              <a:t>могућност извршења вербалних или писаних налога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  <a:ea typeface="Cambria"/>
              </a:rPr>
              <a:t>граматичка структура реченице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  <a:ea typeface="Cambria"/>
              </a:rPr>
              <a:t>графомоторно извођење (прецртавање)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Title 1" descr=""/>
          <p:cNvPicPr/>
          <p:nvPr/>
        </p:nvPicPr>
        <p:blipFill>
          <a:blip r:embed="rId1"/>
          <a:stretch/>
        </p:blipFill>
        <p:spPr>
          <a:xfrm>
            <a:off x="317520" y="268200"/>
            <a:ext cx="7388280" cy="12002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  <a:ea typeface="Cambria"/>
              </a:rPr>
              <a:t>Путем сумационог скора на датом тесту могуће је одредити степен интензитета когнитивног дефицита/тежине деменције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3440" indent="-25344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  <a:ea typeface="Cambria"/>
              </a:rPr>
              <a:t>1. без поремећаја – 25-30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3440" indent="-25344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  <a:ea typeface="Cambria"/>
              </a:rPr>
              <a:t>2. благи поремећај– 20-24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3440" indent="-25344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  <a:ea typeface="Cambria"/>
              </a:rPr>
              <a:t>3. умерени – 11-19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3440" indent="-25344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  <a:ea typeface="Cambria"/>
              </a:rPr>
              <a:t>4. тешки – 0-10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  <a:ea typeface="Cambria"/>
              </a:rPr>
              <a:t>Нижи сумациони скор, указује на већи степен когнитивног оштећењ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088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Cambria"/>
              </a:rPr>
              <a:t>Процена се врши путем: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  <a:ea typeface="Cambria"/>
              </a:rPr>
              <a:t>1. клиничког преглед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  <a:ea typeface="Cambria"/>
              </a:rPr>
              <a:t>2. допунске дијагностик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  <a:ea typeface="Cambria"/>
              </a:rPr>
              <a:t>НМР,  транскранијална магнетна стимулација, евоцирни потенцијали, електроенцефалографија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  <a:ea typeface="Cambria"/>
              </a:rPr>
              <a:t>3. неуролошки тестови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Cambri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Cambria"/>
              </a:rPr>
              <a:t>Scandinavian neurological stroke scale,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Cambria"/>
              </a:rPr>
              <a:t>NIH skor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  <a:ea typeface="Cambri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Cambria"/>
              </a:rPr>
              <a:t>National Institutes of Health Stroke Scale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  <a:ea typeface="Cambri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Cambri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Cambria"/>
              </a:rPr>
              <a:t>Глазгов кома скала (Glasgow coma scale),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Cambria"/>
              </a:rPr>
              <a:t>Ашворт (Ashworth) скала за процену спастицитет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Title 1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Cambria"/>
              </a:rPr>
              <a:t>Врши процену глобалне онеспособљености након ЦВ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Cambria"/>
              </a:rPr>
              <a:t>Скала се базира на субјективној процени испитивача потребе за асистенцијом у вршењу уобичајених активности дневног живота пацијента у односу на вршење истих активности пре настанка можданог удара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Cambria"/>
              </a:rPr>
              <a:t>Скала је једноставна за употребу, најчешће се као гранична вредност за благу и умерену онеспособљеност користи оцена 3, док оцене 4 и 5 означавају тешку онеспособљеност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Title 1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Cambria"/>
              </a:rPr>
              <a:t>Мери степен онеспособљености скалом од 0 до 6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  <a:ea typeface="Cambria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Cambria"/>
              </a:rPr>
              <a:t>-  има болесник који нема никаквих симптома;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  <a:ea typeface="Cambria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Cambria"/>
              </a:rPr>
              <a:t>-  има болесник који нема значајнију онеспособљеност  и може обављати активности свакодневног живота;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  <a:ea typeface="Cambria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Cambria"/>
              </a:rPr>
              <a:t>-  је блага онеспособљеност, болесник не може обављати све пређашње активности, али је у могућности бавити се својим послом;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  <a:ea typeface="Cambria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Cambria"/>
              </a:rPr>
              <a:t>-  је средња онеспособљеност која захтева малу помоћ, али је болесник у могућности да хода без помоћи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  <a:ea typeface="Cambria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Cambria"/>
              </a:rPr>
              <a:t>-  је средња тешка онеспособљеност, болесник не може да хода без помоћи, не може самостално спроводити личну хигијену;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  <a:ea typeface="Cambria"/>
              </a:rPr>
              <a:t>5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Cambria"/>
              </a:rPr>
              <a:t>-  је тешка онеспособљеност, болесник је везан уз кревет, инконтинентан и захтева сталну негу и пажњу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  <a:ea typeface="Cambria"/>
              </a:rPr>
              <a:t>6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Cambria"/>
              </a:rPr>
              <a:t> – болесник је умро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Title 1" descr=""/>
          <p:cNvPicPr/>
          <p:nvPr/>
        </p:nvPicPr>
        <p:blipFill>
          <a:blip r:embed="rId1"/>
          <a:stretch/>
        </p:blipFill>
        <p:spPr>
          <a:xfrm>
            <a:off x="255600" y="-6480"/>
            <a:ext cx="7450200" cy="1158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  <a:ea typeface="Cambria"/>
              </a:rPr>
              <a:t>Лошу прогнозу у смислу постизања независности имају пацијенти са МРС &gt;2 и тежим можданим ударом, док пацијенти са оценом ≤ 2 имају бољу прогнозу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  <a:ea typeface="Cambria"/>
              </a:rPr>
              <a:t>Клинички значајном променом сматра се побољшање од  једне оцене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  <a:ea typeface="Cambria"/>
              </a:rPr>
              <a:t>Лоше карактеристике скале помињу су субјективност при скоровању, врло једноставно описане категорије и недостатак јасних демаркација између појединачних оцен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684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  <a:ea typeface="Cambria"/>
              </a:rPr>
              <a:t>Функционална процена код неуролошких болесника значајна је јер приказује стање пацијента и ефекат примењене терапије и праћење исхода лечењ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  <a:ea typeface="Cambria"/>
              </a:rPr>
              <a:t>Ради се у току 7 дана од настанка инсулта и након 3 месеца.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Cambria"/>
              </a:rPr>
              <a:t>Избор адекватне функционалног теста  треба треба да буде прилагођен особинама пацијента, природи обољења, фази опоравка али и за карактеристикама самог теста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Cambria"/>
              </a:rPr>
              <a:t>Примена општих скала процене функционалности омогућава нам практичан и поуздан начин прикупљања података о степену ограничења у вршењу активности дневног живота, напретку у функционалном опоравку као и степену моторног ограничења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407880" y="285840"/>
            <a:ext cx="8437680" cy="16286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Најчешће су у употреби и опште су прихваћени: Фугл- Меyер, Бруннстром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Код оштећења кичмене мождине, због специфицности оштећења тог дела ЦНС-а користи се више специфичних тестова и скала за процену оштећења и сензомоторног опоравка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Најчешће се користи АСИА СКАЛА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57200" y="228600"/>
            <a:ext cx="72388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Процена напредовања у рехабилитацији може се пратити путем разних скала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2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Процена моторног опоравка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: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Фуглмајер скала, Брунстом скал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2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Процена тонуса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: Ашворт скал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2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Процена функционалног опоравка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: Бартел индех, Фим тест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le 1" descr=""/>
          <p:cNvPicPr/>
          <p:nvPr/>
        </p:nvPicPr>
        <p:blipFill>
          <a:blip r:embed="rId1"/>
          <a:stretch/>
        </p:blipFill>
        <p:spPr>
          <a:xfrm>
            <a:off x="268200" y="225360"/>
            <a:ext cx="7358040" cy="11527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Бекова,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Хамилтонова и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Монтгомери-Асберг скале за депресију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Ради брзе оријентационе дијагностике когнитивних и психичких поремећаја примењује се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Мини</a:t>
            </a:r>
            <a:r>
              <a:rPr b="0" lang="sr-Latn-C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Ментал Тест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Title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Cambria"/>
              </a:rPr>
              <a:t>Најчешће су у употреби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Cambria"/>
              </a:rPr>
              <a:t>1.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mbria"/>
                <a:ea typeface="Cambria"/>
              </a:rPr>
              <a:t>Бартел индекс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Cambria"/>
              </a:rPr>
              <a:t>(који процењује степен независности у извођењу десет задатака из области самозбрињавања и активности дневног живота) и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Cambria"/>
              </a:rPr>
              <a:t>2.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mbria"/>
                <a:ea typeface="Cambria"/>
              </a:rPr>
              <a:t>Индекс функционалне независности ФИМ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Cambria"/>
              </a:rPr>
              <a:t>(који је сложенији и састоји се из два дела: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mbria"/>
                <a:ea typeface="Cambria"/>
              </a:rPr>
              <a:t>процене физичких функција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Cambria"/>
              </a:rPr>
              <a:t>-самозбрињавања, контроле сфинктера, трансфера и локомоције 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mbria"/>
                <a:ea typeface="Cambria"/>
              </a:rPr>
              <a:t>когнитивних функција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Cambria"/>
              </a:rPr>
              <a:t>-комуникације и социјализације. Свих елеменат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Cambria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Cambria"/>
              </a:rPr>
              <a:t> се процењује по седмостепеној скали од потпуне зависности до потпуне независности)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Title 1" descr=""/>
          <p:cNvPicPr/>
          <p:nvPr/>
        </p:nvPicPr>
        <p:blipFill>
          <a:blip r:embed="rId1"/>
          <a:stretch/>
        </p:blipFill>
        <p:spPr>
          <a:xfrm>
            <a:off x="3127320" y="3498840"/>
            <a:ext cx="4919760" cy="12063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C:\Users\User\Desktop\images (1).jpg"/>
          <p:cNvPicPr/>
          <p:nvPr/>
        </p:nvPicPr>
        <p:blipFill>
          <a:blip r:embed="rId2"/>
          <a:stretch/>
        </p:blipFill>
        <p:spPr>
          <a:xfrm>
            <a:off x="609480" y="685800"/>
            <a:ext cx="2932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1" descr=""/>
          <p:cNvPicPr/>
          <p:nvPr/>
        </p:nvPicPr>
        <p:blipFill>
          <a:blip r:embed="rId1"/>
          <a:stretch/>
        </p:blipFill>
        <p:spPr>
          <a:xfrm>
            <a:off x="268200" y="317520"/>
            <a:ext cx="7437600" cy="11509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  <a:ea typeface="Cambria"/>
              </a:rPr>
              <a:t>Дефиниција  СЗО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  <a:ea typeface="Cambria"/>
              </a:rPr>
              <a:t>   „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  <a:ea typeface="Cambria"/>
              </a:rPr>
              <a:t>бол је непријатно чулно или емоционално искуство повезано са стварним или потенцијалним оштећењем ткива“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  <a:ea typeface="Cambria"/>
              </a:rPr>
              <a:t>Међународно удружење за проучавање бола (IASP) дефинише бол као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  <a:ea typeface="Cambr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  <a:ea typeface="Cambria"/>
              </a:rPr>
              <a:t>   „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  <a:ea typeface="Cambria"/>
              </a:rPr>
              <a:t>непријатно емоционално и осећајно искуство повезано са правом или потенцијалном повредом ткива, или узроковано тим оштећењем или повредом.“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9T06:54:17Z</dcterms:created>
  <dc:creator>User</dc:creator>
  <dc:description/>
  <dc:language>en-US</dc:language>
  <cp:lastModifiedBy>Windows User</cp:lastModifiedBy>
  <dcterms:modified xsi:type="dcterms:W3CDTF">2020-02-12T09:33:12Z</dcterms:modified>
  <cp:revision>322</cp:revision>
  <dc:subject/>
  <dc:title>PowerPoint Presentation</dc:title>
</cp:coreProperties>
</file>